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6B5-FCA8-430B-B545-000B80FF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949-E174-4038-9537-31F4302D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CBE-3AAC-4E43-9FD4-09F658AA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695-7DAC-4D6B-B7CC-21ECE1EA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084-F149-4F98-9398-DA3AA307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5C0-79A9-40B0-B450-5F736C0E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6E0-A9B5-4153-AD78-C2E7B4C8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71A-AB4F-4814-830F-7C5803B6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DB9-4AB0-4EB7-9937-F8276BF5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8C5-5172-4B87-8E9D-38C3B76E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ED9-6253-492F-AFE4-1248EEF5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FD1-F454-48E4-9761-0A24162A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439A-C31A-411B-B7E9-49F70EA79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_______               Clase 6NH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5 de diciem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2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continuamos el repaso para el Examen #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e una Oración Enunciativa, una Oración Interrogativa y una Oración Exclamativa con cada palabra (3 cada u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u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ú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Crear las tarjetas de índice para estudiar, necesitas encontrar las definiciones para las siguientes palabr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onema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ustan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artes del alfabet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Sustantivo Comú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Vocales abiertas o fuert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Sustantivo Prop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Vocales cerradas o débil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Genero del sustan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Diptong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Numero del sustan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Triptong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Hiat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un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 palabra                   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Punto segui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 silab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Punto apar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-Monosílab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Punto fi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Bisílab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Trisílab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Or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olisílaba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Oración Enuncia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osición de silaba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Oración Interroga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cent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   -Oración Exclama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cento ortográfic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cento auditiv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gud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Grave o Llan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sdrújul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39:13Z</dcterms:created>
  <dc:creator>Helen Zumaeta</dc:creator>
  <dc:description/>
  <dc:language>en-US</dc:language>
  <cp:lastModifiedBy>Helen Zumaeta</cp:lastModifiedBy>
  <dcterms:modified xsi:type="dcterms:W3CDTF">2011-12-05T19:15:55Z</dcterms:modified>
  <cp:revision>4</cp:revision>
  <dc:subject/>
  <dc:title>Me llamo_______ Clase 6NH La fecha es el 3 de diciembre del 2011</dc:title>
</cp:coreProperties>
</file>